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C64-0F09-45B0-97AB-ECEEE0FF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1F6-A279-4353-A2AC-FE2A5736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FCF66-0D57-4E06-B828-6118DEF9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82090-1F37-49BF-BB9D-4C7F7248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31D28-3BB3-4604-A9AA-E581723D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5261B-1DDF-41E2-8AA8-23305BCA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AB1E0-F824-4BAC-AE3F-A604BAF3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501CF-C857-43C6-9957-D94D4DFC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EBCB9-E1F9-4AA4-8C23-C3E43C5A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8240D-DC36-45EC-8EA6-F51FC75B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BAA94-304D-4124-A6A2-12167C6A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44261-96ED-40C4-BA0B-74F64FD5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216-FE5A-4C81-9AA3-E7696D37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CC06F-915C-4643-BEA1-FD01242D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C2FF2-B437-4B9A-85CC-33B068B0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6F777-3786-4018-8061-8E909A64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F5516-339C-45EF-8325-B3A4BC8C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F490A-5C6A-4FA4-A8B2-A2D8C98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FCDE9-2416-47D7-A61F-8CBE0BAD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41DE4-AC9D-446C-8058-9135C11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FE70E-B8F1-4EDB-AD94-4C42ABBB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D5DA6-6A41-4CCA-A14E-656B7201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9E71B-62E0-4537-AB08-8C651C09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FC7-3225-478F-90B8-DA36C2D3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1061E-EF65-4FED-8BC5-9980D24B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B8EE9-B0BA-42E5-9666-1A1ABDDA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56A3C-C32E-4FCB-8540-83175B83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0E0F5-9772-4E9C-992F-12CFD9AD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8F8D7-70AC-419E-99F5-36413C61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447DA-4A03-444B-8B9E-76044537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3DEDB-AE3E-409B-9F97-3556ED65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8A1FC-D5A5-4A34-ACDD-24FE8F63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4D387-77F3-4600-BBC2-890E9516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B04D2-C59F-4837-A31A-BB73C9C5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EBFD-B44C-4011-8526-4C8E5193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BAE2B-081D-4848-A8BE-AA85E149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2C758-CB47-44E6-9038-74CDCE23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5BE0C-A8DB-4A5B-84BF-EBB4F34C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57B39-ABC9-4ECC-83CF-C8BF445F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7804B-B7A9-4917-B208-A96341D6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46849-1CED-4D74-9B70-53855273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E6D91-B199-4EC8-B0A2-EBCD4EFA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875CD-A5C3-4F4B-AE8C-9CFA867B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09185-EABB-496D-A95C-F6CAEE51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C0527-AC86-45ED-BC38-5A991969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99E6-427A-4024-9886-D839840C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4BCF1-3388-4E3E-A829-950A7A1A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93D36-FCB7-4C43-84A9-D220D17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D3075-27E5-4B74-ABF3-C712B09F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A67F7-B62A-4A16-A7A7-347A9025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B33E6-66EE-4CE9-86F2-8B0B3AD4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7D396-F2AF-4EC0-BD82-FFDFDDA2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9ED1A-5BC6-47B2-9D4A-6B5A95E0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294E6-B05D-40A4-8F3D-68186789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F824E-0182-4C58-A761-2E6381CD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97221-7C63-4F7F-8068-2591FD91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D9D1-85ED-40CB-8313-79F0C641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71912-812E-40F3-8313-BA5BDF73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CC902-1AF7-4775-BE8C-0A029506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B7432-99FE-4437-90AE-8AF6E71F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16BCE-AE7F-493D-B9E6-B9B26942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E2583-80C0-414C-8DD6-35C77149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85173-6769-436F-A94D-CA15EAE7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BCB5D-15CF-404D-BABA-10CC455C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F1857-055C-45D0-B8A5-8DDD947D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4DBD6-3C59-4521-A4BF-340991BD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58F3B-B1E0-4798-B7C3-C6FE0334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A6DC-B3AB-4551-AB4E-72AE4325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739F9-9E6D-41F8-971D-73D2B4B0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43979-7AC4-4549-BA34-C860E02A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9E9EB-30CE-4849-A112-0C84A297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922A0-A0FD-4FE1-B428-95B4ED7E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E8BF2-A050-4F66-ACBE-F3E690F5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CA49D-4990-4EBB-97C3-9542EEB0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968A5-A784-4662-99D7-5553370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51070-5B25-497B-AA51-AF71088D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88FE1-55C1-48AD-9208-456EEEAE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1B137-63DC-425B-98D9-292F147D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4F6D-B966-4BF1-8360-E5A9D5AD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9AB46-9896-4C21-83CD-A1D27D40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920E6-6D1E-48F2-B01C-3CD7E7A4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BE9EC-DE1A-4F91-944D-2D83BF1C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CCFBA-C2B3-472E-AC59-54ADCDD0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FEC21-A20C-44A4-8A47-D3C1DAB3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0A0259-0C3D-4310-964E-02E75258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2BBB5-D43A-4397-95F4-F3668ADA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DA04AB-E934-4D42-85EC-EC1F47C3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785D4-4EC9-487B-B166-8AF807BB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8B6A1-36F7-4EDB-A5DD-3DFAE559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1BDD-DDB5-4D59-92E6-4D74063A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CF891-F042-4F83-B7D3-FB43C975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297C5-D61B-457F-9111-B7600DF1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949FE-C64C-42E3-8083-F9471C9F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6BC27-051B-4AA3-95AE-0C51F481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B52DB-B767-42A3-A2AE-598BD4DE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C15C20-699B-4700-821C-81101E8E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3D680-F00B-4528-B355-1A4CA2F9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E5735-03A3-4E09-8156-E32285AD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39236-F206-49E0-A770-E1B6CD06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06A15-5473-4FFE-9657-2DAF24A8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0C37-7A5B-409F-85A0-CE18316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9F033-5435-45FB-90D8-E64852C7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5C747-878C-458D-B780-CC695495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60500-96D1-4ED7-825D-DB33BAD5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C3DFA-7499-48A6-B6F9-85D825DB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55411-A872-48D3-819E-D0EA4181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270DE-454E-4011-A7F9-07FE23F6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9C75B-6B2B-414B-906A-9AFF4623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984287-1FE6-4766-B264-05933189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F8A91E-3AC0-4482-89F2-C70A589F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4302C-25BF-4440-871C-5204E8AC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91C-8EDE-48C7-9061-B21E4B6D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A92A-2F73-4A18-97BF-5B423959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70A88-6020-422D-B348-9D395506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C24F4-DEC9-47A2-BB0B-F12AAFED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423FCB-DA3B-48B9-96D8-5D507632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F8ED32-A84C-4592-B441-977EB4FD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D7A75-DC14-417B-872C-CDFE64D7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A6DDF-85AD-4224-813D-16326623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8E3003-42C8-4A60-9CE7-EDE78E29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B4A6D-D9E8-4FD1-915E-24BD52FE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5CF25C-FAE1-4CF5-AFC2-A527563E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4CA9A2-0361-4816-92F5-27AA4F0E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7DEA-C5D4-40F1-A52B-6A9D8B89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64C93-D7F4-4C42-BF5F-A772EAB1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65238F-7693-4901-948E-F352B9E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15AEF-5F5C-4577-8868-677536F3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3CD852-D505-4947-8A57-F9FEF630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B119B-6734-4939-A93F-4C9DBC6C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2AF59-6E20-42C0-BE89-A5D3E144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A75014-25C6-4AF3-9F2D-997B2103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6C9C20-1198-4D52-80BC-BFA9C24B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DECEE4-717B-45D0-B4E3-A55299E1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CECF5-64DA-4B94-9B3B-D518C33C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A2EC-1E70-4E11-BB5C-7BB13F8E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EE4E64-6158-406F-BD44-0A1FEE95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627FE2-63D1-4B3E-9D4D-2D692D34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A2A6D7-8A2E-45C5-A40D-A8D9CEB7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543092-E17E-4123-AF02-0A705EBC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FE6061-C207-484B-8A3A-5A37344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41F407-1C45-4B9E-A516-0D997E1E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7C0909-C3FA-4A34-83CE-FF5F6466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E7D83-C29D-44D1-8FCD-8E25ECBB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AABEC4-39A0-4D45-9AE2-C9CFC787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426F8-C01B-468B-B81B-C58495F4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0FD7-1B8F-477C-BA82-8A609C4E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F9113A-756D-4F5A-8CC4-555532B0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D16540-CA22-4B15-93F7-B5E884C2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577D0-F687-456A-99D8-221BDFE1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DEEDF-5462-4166-A93E-925B9F50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037406-F93E-48C6-BFE9-33DFCE1A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D1F39-CEE1-4D51-BE81-280E44E5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B45659-55EC-4CCA-9F34-50E83D4E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737B30-0E26-40A0-8E5C-78AB996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1C680E-17C1-42D9-A16C-7773A622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67325-48D2-4B5E-BB1D-BCAEB363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CD14-81DB-4097-BD98-C8F6DF70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08552-F7C7-4BAC-AB43-599D9CF9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B0CA7-1709-4E6D-9A14-4830F2E2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8AE37-1368-4E5D-B9E8-3CF91A07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3E200-0244-4936-A3E8-51F32D4C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40AAE-FF78-4746-B102-8C136926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4A7D9D-368B-4569-B52A-7928F7D1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1ACCD6-E092-4152-B93E-D9A825CD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A3D4CB-C7C1-4240-BFC6-8666EF6D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ECC60-5B3F-49D4-B3D9-2E4B647C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D1498E-6DA7-4088-8033-5B1A1854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5C88-5A28-4A39-9F91-52CDE847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B85A72-8A3B-47B6-8088-932E1164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C0983F-653B-4BFE-8E06-BA001EF5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4150D-0BA8-4088-887C-A83114E2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50C95-37F1-4277-923A-6F4A0A75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DD1B8-CD2E-49F2-82DD-ECE81480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E60DA2-9235-4012-B298-56A6F6A6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5DA537-2DE0-43FF-A711-E4081C3C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8FACB8-7834-40FA-8681-8844FE5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A04D33-4F41-4252-AF9F-4A17C054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078E91-B2DB-43C5-8D6D-8D1E34B7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B4C53-C46B-4E7E-912D-509A3117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B2F900-2B04-4D4F-88CC-E442F575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C64C4D-03DA-40FF-AC09-304A8775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6D090E-A7ED-4EA8-B160-DCA4669B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5B7D74-F20B-4F74-84CF-0628BBC2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58B16B-B73A-452F-87E2-296861DD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5D4E11-23F6-4E74-97DA-C61DDF6C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D32A66-5DBA-4DE7-8FC3-349DE202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681A63-ED84-483D-B9E8-A1D22F99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688D47-C9A5-4C82-8CAC-55DEE4AE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63D3BF-99A7-4E19-AF1A-F05DAF46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B694-22A7-4E5B-976F-0BB9D47E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5A1C54-0C56-43DE-A199-7F59AC44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3BD426-1560-460A-848D-E45C7CD0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13725D-9F20-48F8-A196-03905894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7A3460-D9A4-4990-B3C1-B0A4DF10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DE5084-7204-49EA-AE40-05F1A4C1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9FB64E-BCE3-4B57-8587-0A8E925D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735C47-6CF6-4A4E-8695-057ECB23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99DF90-2928-4E20-AC53-AF714DF3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89797C-4E63-4604-A5D8-E13D785B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FFED10-5087-461C-817E-469578FA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5FE6-A505-4162-80BB-33455676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E50177-DE47-467A-8549-89287778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B08DEC-930B-4D02-B7A1-3C721B50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668786-FB87-476F-916F-3B2B9620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87F74E-6607-402D-BCE2-DB61B4D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2D1895-CBA3-4546-84BC-721944A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565446-0C73-44EA-931E-75A5C2B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F2C150-1DAF-4831-97EA-7036CF67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F8E1F8-2AB5-49E0-B1F2-F8834880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38DE87-B559-43B3-BC19-47402794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D72107-ADB5-47D1-9AA1-3F08525D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0C32-46CC-4785-97B3-EED35351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AFDA76-BC94-4601-B3CC-7D4E7686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DEF5F0-8003-4DA9-B7C0-BC8C8B92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E3508C-6004-4B6E-BC45-8040E759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12195C-43AE-42B0-A2C7-2A24BD5B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2D759B-9137-4177-8773-EDDCA27D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6E50CF-2ED9-45FC-828D-DB10473C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9B565E-8221-472B-9A4C-BD41EAD8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EC124E-9C14-4363-88D6-543D276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515C9B-01EF-476B-9E03-3065FE48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BF6A81-7D86-4528-B188-18BA11EF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402-4450-4E44-A213-ED967C61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9269-6AEC-44FE-A56D-77071F00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167310-C983-4645-B001-F83E91D5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AFFC57-4D38-4012-AD59-A649EEFE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1F4952-C03D-4D88-B74A-D7F4DC6F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669693-BB9F-4730-961E-427CB32A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FE696E-60DA-49AC-BC25-A9609253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96C516-C1E7-4E18-951B-6B9A3EC5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BB71F6-31AF-4A3B-9FB8-5612F76A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467803-51AD-4280-BBF6-15F25EC0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4A7FBC-DBF8-4935-BEF3-F3EDFCFA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5F80D9-5198-4562-806E-481BFE3D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33DE-CC48-44B4-89FA-E84F4FA6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355BF4-9E17-4A45-9775-7C38C742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9E7E45-A719-4E1E-8B61-0095A73D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2C0CF8-EEEC-458B-B28D-2987AD1C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0126B0-9D63-4615-B88C-04840B65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A2349D-5AB0-4FDE-A691-B3AA4D46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27F87F-16C3-4CA1-BEC0-48BD44AB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0A653A-8AEE-41B1-857B-94D40E3F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EEC6EC-30E7-4FB2-BC26-5D2E061C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1B89A7-DCB6-4D01-B838-B092C1E6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B01165-3EE3-4B9C-B764-75E70822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BEA7-2B16-4B03-8E37-6377F615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29BC9D-7BF9-4244-A804-DF2B3F59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86EE36-239F-4C51-9DEF-F56A8B74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6F0624-E194-4F1B-ADD7-D19D2109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CCD189-D381-4183-8839-52726E43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94C07A-6FB0-4D01-B3EB-8D69DF7B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35B9E7-CBF9-4C68-AC8A-7C9BD266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0319CE-BE0B-490B-A685-CF647C36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626B55-E5E7-4A40-986A-A8D36A90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22774F-E2D9-4221-972F-8ACD5DB8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448194-E30F-4E9A-AA3D-196AB0E1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96719-2101-4B2F-B816-52F86B65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3965BB-4CD4-420B-A555-32371C5E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14094A-1493-4442-BD33-C8429D36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07CFFC-8A15-42A5-89D9-543E0036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5A01D4-BB1B-49BC-8531-FF6039E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12B3C0-B39C-408D-9031-8C6BFCD6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003C96-814F-4E03-8A37-1AC564D9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03CB96-6B68-4500-8141-FFF3C296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42367F-6F51-4799-8647-D9868BC0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90ADDC-AE05-40B6-A667-3BC542A0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0D41F7-2F9A-42CD-9339-9AB17176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A0B30-CB75-4D02-874A-B92EC88B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B10AD0-56AC-470A-936A-382E932D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170320-41A1-4E7B-BBE8-CC2A014D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DCA4FC-8149-42F5-9B85-3F2FE75A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835A88-1BA2-4344-9CC7-0A68D25A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908056-B644-4159-B427-4504FAB4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6ED72D-A3A8-412C-BE0A-CFB9A0A8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AE469B-4B88-459D-B4A5-1ECA3982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344199-DAE6-4872-B9A0-608D9D09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8402C2-77E2-4054-9D5E-F7031A2C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15EA12-A387-431E-ABDC-B65B1B2D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7951-4BFC-4F42-A4AE-8789F831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228C4A-7B90-481E-8CDA-0FFD7EFF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059614-106F-4C46-BA6A-DDACA964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B944A9-540B-4341-9B2D-7DF9E82A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C00E46-F1B1-4429-9982-CF19D940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8C414C-CBDD-4A67-83A9-99F08F3B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698B33-7EE3-493F-9EAB-010C5484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BF2EEF-B998-421A-964E-824CB632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060A02-1154-42AD-A29C-6C56046C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5F5C64-C253-4CF1-99DE-468B48AC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A329B6-78D5-4D71-9292-9CDADDE1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AEF3-767E-4934-87BB-A8F6B69D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317F98-E6A0-4570-8E48-6EA94C09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E2475C-C97B-4095-B994-9A3F4523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497993-B959-4746-8733-84EB28D1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943E52-0F35-4F05-BBD7-3ECBDB73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381759-455A-4E6C-A82C-0A8808F1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7E263A-B50C-4F15-AE0A-D227FB4F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C2426C-5FC7-4159-A39F-787C3C2F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568C97-A71F-401C-9B94-22ECE71D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9DD001-5480-4B61-885D-EBFD935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E62193-76B9-422D-BF94-BBB05FD7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6CFC-74EB-416A-B055-1EF1E83A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07A83F-CC8D-41B0-9978-95EC860B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1A7E03-C754-49EC-A800-80FB549A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D9DC0E-ADDB-420A-9E09-60E8713C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4A26-4478-46FE-A788-8F4EF42B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82DD4-DADA-4C07-B515-789E281C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453-DE69-4444-807E-CC48D21C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540B-AD27-46F2-B075-6852AC92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928C3-0720-46F5-8CFA-1648DFC7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8746-4A01-4494-AC5D-FA0270C8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94739-77B3-4D96-8428-06B8519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2752-9468-47A4-8783-156CFFEB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8869-458F-4AFD-9C67-D4F4AA4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11972-5009-4DDF-9221-1773E928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80B8C-5E2E-4303-8E10-4222407F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45CDE-4B88-4162-9DC6-5E977F3B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DF6E9-238E-45D8-9E86-203158D5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8F8-0285-4C26-986F-D05AD597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D1131-C5D7-41AB-9857-8001EEC2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A4891-4AF3-4C7F-87C7-1E8B2EEC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0D055-04E1-4EE5-AF73-B565E76A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B3BDF-45EC-4708-92B4-2A981494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E5C62-68B0-4DA1-9EE1-AF99019F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467EF-CE6F-47E1-88F7-AEEC2C55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BD992-9ABD-4171-8A19-CB412BDC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B7FFE-2C3B-4FC5-9C39-8B31D055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F45E0-228A-4F79-AD09-4A08BDD4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5BCC8-C134-47E6-926A-72BABF8E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197-9266-4ABD-8F01-875B8A98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F1423-E40A-4EC7-9A00-961E0299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88429-887C-4C91-8BBF-AA6DF036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84F86-C255-4E2A-B4A7-BB3CBD2D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DABA7-F567-4C15-8AA0-0B57D622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101A-E7DA-4E72-AF21-EB3F7697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47985-3A4C-4A46-A625-05F3B320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F4A1-E466-4C0E-B3C5-8E128F89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9E1F3-BF83-4EE1-8C04-BB0F81BD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A3B80-F6EE-4C22-854E-04288949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290DB-C0CF-4004-92BE-956C2FB7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754-0FDD-4534-95A9-AE0A4B1A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78539-6CE9-45B2-8382-A2AA3A45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81B90-E0BA-48F3-BAAB-DA752910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15FD2-E320-43D5-8776-CFED727F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F4AEB-825A-4F00-B3E7-CD91EDCE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D63D4-D47C-4D48-8B46-287C3A90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7CFCE-326E-46A2-9E59-4CA73AB6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B0087-5FA5-4F91-B842-0F82A514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4C4A3-9751-4E83-AF8D-691842C0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F4DD8-77CE-41D0-8519-860D517F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04825-B4D8-484C-A8F3-03E3F4C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656-94DF-4946-A458-EAA9A9D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DE3FE-75C6-4985-946D-46262CDD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419BF-EBAC-4535-8D07-E97108BA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982A4-4629-45C7-BF93-5C7F522C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5DEFA-80F4-497C-BF64-E9CA30F9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7AC57-A234-40E8-915B-AD09F5B9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04E96-3E7E-4C8C-87D1-3FD212F4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68BEA-5362-47C8-AC8E-FBEB8768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FDDD3-3337-40D4-B870-C10BB472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3C6E1-DA5D-47FF-B5B6-7D70534B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93BE1-C96C-4CEE-9280-31A8656D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3B9-86A9-415D-8E8A-AB04D941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AED6B-42E0-4AB9-8DDE-6E6EE44E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2E69D-9B7E-49DB-B5CB-C143DD9E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080B1-B2D5-45F6-83F5-86E98669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E95D7-D4CC-45B0-9976-1661699F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F9D49-80B2-4912-9A83-878E9150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765D7-1A0B-4F42-8470-D36ED40B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50B90-BF8B-4D7D-9299-2A079301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529F2-E9E3-419E-B72E-A683BD30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AA8FB-6644-4C9B-9070-946FBAD5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BD27E-5940-47C1-BEF3-CF68A56F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9413-240A-468A-81E7-2CEC435B36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16E0-52E8-406A-90B3-ECF47F7934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FF19-A4FC-4800-8619-292F6163D0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A15F-1BCE-4CC1-97B6-3D12497C28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8191-0787-4F7A-90B7-BC5C9D7CD2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AE0A-3C27-462E-BE42-F50CD859A1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535F-6543-4C0D-9611-0DC0FA4857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92BA-46C3-4386-BD34-A84908C432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A5D9-6A74-44AC-9D5A-106C979D41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59A5-63D0-4A59-8711-94620CDB2A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6FD8-FB2A-41E0-ABB0-0EEFE62285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2896-D94C-4E50-A95B-9A644D6760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8538-777B-4F48-BB26-EC77AAD7B7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74FA-733F-436A-86EF-3646B1F76E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130F-4453-47C7-AA00-2CC5C4D84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DD1E-0DE6-4E06-BEE2-56956E5589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1055-7FB2-42FE-A7B3-4818BE8DF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E6B9-F963-48BD-8196-C9C0EE9536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30B4-95E0-4643-ABFA-C933402C2D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68B3-C322-45AC-84E0-9CE6F80A10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80BF-67F9-46F8-B918-E3D6EA9E72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51D3-E336-4B0F-9F51-E8307C4AE1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42BC-7C4F-4AF2-830B-D1929B97C1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2123-F521-4DCC-8168-A3AC9E9E71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8476-FACE-495B-A1D6-B3139519F7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C807-B9DC-4175-A2E2-4BF9C83A87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16C8-C796-4ABC-882B-D8E2E362C1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91BE-D329-4E46-8D7E-404F465B25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01C5-3026-405A-B83D-73D3A75C47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142C-3BE8-4D4C-A2E6-43D1B78D50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6A93-76BC-48C3-98D5-48F00B4BD6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2387-81CA-4B68-9DCF-6327504298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7906-C473-44AE-B3E4-E6CB9CA9E9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0C77-A32A-4622-984A-70EC29C4EE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2CA7-3853-4705-98A9-8938229B7E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3E6-1B1C-461E-A23C-61B200E52E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8FCC-E5E7-4123-BF12-757F9E8C46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18BE-FAE0-4238-B839-657C923555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3954-0CC0-4F0B-B4E7-C6D353505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1DBF-3E60-4DAC-8A39-C60D02976F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CA54-9B14-4102-972B-5BF744F6C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134F-D56E-4540-AF5D-6573DD074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C04C-079C-447D-A966-89D57EC70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654E-0AD6-451E-9646-16A9DE02C6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B7F6-9EDD-42F3-8668-B8A9F0C6D4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D010-D8CA-48BB-8EC2-27DD2F1131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4066-F25E-4CF7-9BC0-8E6D018B85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38E9-AA99-4BD1-8735-6D8C36867A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228D-6552-4FB1-ABA5-DBCB757353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7436-C78A-4076-B235-D87BF9A1BB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924960" cy="128592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99880" y="3276720"/>
            <a:ext cx="85442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图片 132097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172360" cy="4133880"/>
          </a:xfrm>
          <a:prstGeom prst="rect">
            <a:avLst/>
          </a:prstGeom>
          <a:ln w="0">
            <a:noFill/>
          </a:ln>
        </p:spPr>
      </p:pic>
      <p:sp>
        <p:nvSpPr>
          <p:cNvPr id="1352" name="矩形 132098"/>
          <p:cNvSpPr/>
          <p:nvPr/>
        </p:nvSpPr>
        <p:spPr>
          <a:xfrm>
            <a:off x="3513240" y="3309840"/>
            <a:ext cx="515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2099"/>
          <p:cNvSpPr/>
          <p:nvPr/>
        </p:nvSpPr>
        <p:spPr>
          <a:xfrm>
            <a:off x="7643880" y="3309840"/>
            <a:ext cx="515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2100"/>
          <p:cNvSpPr/>
          <p:nvPr/>
        </p:nvSpPr>
        <p:spPr>
          <a:xfrm>
            <a:off x="3862440" y="4656240"/>
            <a:ext cx="20145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107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153280" cy="405792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1074"/>
          <p:cNvSpPr/>
          <p:nvPr/>
        </p:nvSpPr>
        <p:spPr>
          <a:xfrm>
            <a:off x="3871800" y="4562640"/>
            <a:ext cx="700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图片 130049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001000" cy="5457960"/>
          </a:xfrm>
          <a:prstGeom prst="rect">
            <a:avLst/>
          </a:prstGeom>
          <a:ln w="0">
            <a:noFill/>
          </a:ln>
        </p:spPr>
      </p:pic>
      <p:sp>
        <p:nvSpPr>
          <p:cNvPr id="1358" name="矩形 130050"/>
          <p:cNvSpPr/>
          <p:nvPr/>
        </p:nvSpPr>
        <p:spPr>
          <a:xfrm>
            <a:off x="770040" y="5867280"/>
            <a:ext cx="731664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图片 129025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591320" cy="2276640"/>
          </a:xfrm>
          <a:prstGeom prst="rect">
            <a:avLst/>
          </a:prstGeom>
          <a:ln w="0">
            <a:noFill/>
          </a:ln>
        </p:spPr>
      </p:pic>
      <p:sp>
        <p:nvSpPr>
          <p:cNvPr id="1360" name="矩形 129026"/>
          <p:cNvSpPr/>
          <p:nvPr/>
        </p:nvSpPr>
        <p:spPr>
          <a:xfrm>
            <a:off x="749160" y="905040"/>
            <a:ext cx="77583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29027"/>
          <p:cNvSpPr/>
          <p:nvPr/>
        </p:nvSpPr>
        <p:spPr>
          <a:xfrm>
            <a:off x="739800" y="1378080"/>
            <a:ext cx="77580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29028"/>
          <p:cNvSpPr/>
          <p:nvPr/>
        </p:nvSpPr>
        <p:spPr>
          <a:xfrm>
            <a:off x="709560" y="1787400"/>
            <a:ext cx="77580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29029"/>
          <p:cNvSpPr/>
          <p:nvPr/>
        </p:nvSpPr>
        <p:spPr>
          <a:xfrm>
            <a:off x="709560" y="2270160"/>
            <a:ext cx="77580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29030"/>
          <p:cNvSpPr/>
          <p:nvPr/>
        </p:nvSpPr>
        <p:spPr>
          <a:xfrm>
            <a:off x="668160" y="2722680"/>
            <a:ext cx="77583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图片 140289" descr=""/>
          <p:cNvPicPr/>
          <p:nvPr/>
        </p:nvPicPr>
        <p:blipFill>
          <a:blip r:embed="rId1"/>
          <a:stretch/>
        </p:blipFill>
        <p:spPr>
          <a:xfrm>
            <a:off x="325440" y="934920"/>
            <a:ext cx="8086680" cy="3591000"/>
          </a:xfrm>
          <a:prstGeom prst="rect">
            <a:avLst/>
          </a:prstGeom>
          <a:ln w="0">
            <a:noFill/>
          </a:ln>
        </p:spPr>
      </p:pic>
      <p:sp>
        <p:nvSpPr>
          <p:cNvPr id="1334" name="矩形 140290"/>
          <p:cNvSpPr/>
          <p:nvPr/>
        </p:nvSpPr>
        <p:spPr>
          <a:xfrm>
            <a:off x="7591320" y="244620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图片 139265" descr=""/>
          <p:cNvPicPr/>
          <p:nvPr/>
        </p:nvPicPr>
        <p:blipFill>
          <a:blip r:embed="rId1"/>
          <a:stretch/>
        </p:blipFill>
        <p:spPr>
          <a:xfrm>
            <a:off x="376200" y="957240"/>
            <a:ext cx="8010720" cy="3419640"/>
          </a:xfrm>
          <a:prstGeom prst="rect">
            <a:avLst/>
          </a:prstGeom>
          <a:ln w="0">
            <a:noFill/>
          </a:ln>
        </p:spPr>
      </p:pic>
      <p:sp>
        <p:nvSpPr>
          <p:cNvPr id="1336" name="矩形 139266"/>
          <p:cNvSpPr/>
          <p:nvPr/>
        </p:nvSpPr>
        <p:spPr>
          <a:xfrm>
            <a:off x="7674120" y="15415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图片 13824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067600" cy="3552840"/>
          </a:xfrm>
          <a:prstGeom prst="rect">
            <a:avLst/>
          </a:prstGeom>
          <a:ln w="0">
            <a:noFill/>
          </a:ln>
        </p:spPr>
      </p:pic>
      <p:sp>
        <p:nvSpPr>
          <p:cNvPr id="1338" name="矩形 138242"/>
          <p:cNvSpPr/>
          <p:nvPr/>
        </p:nvSpPr>
        <p:spPr>
          <a:xfrm>
            <a:off x="4540320" y="3216240"/>
            <a:ext cx="1725480" cy="7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图片 137217" descr=""/>
          <p:cNvPicPr/>
          <p:nvPr/>
        </p:nvPicPr>
        <p:blipFill>
          <a:blip r:embed="rId1"/>
          <a:stretch/>
        </p:blipFill>
        <p:spPr>
          <a:xfrm>
            <a:off x="328680" y="920880"/>
            <a:ext cx="8105760" cy="2857320"/>
          </a:xfrm>
          <a:prstGeom prst="rect">
            <a:avLst/>
          </a:prstGeom>
          <a:ln w="0">
            <a:noFill/>
          </a:ln>
        </p:spPr>
      </p:pic>
      <p:sp>
        <p:nvSpPr>
          <p:cNvPr id="1340" name="矩形 137218"/>
          <p:cNvSpPr/>
          <p:nvPr/>
        </p:nvSpPr>
        <p:spPr>
          <a:xfrm>
            <a:off x="4632480" y="1943280"/>
            <a:ext cx="5238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3619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7495920" cy="3381480"/>
          </a:xfrm>
          <a:prstGeom prst="rect">
            <a:avLst/>
          </a:prstGeom>
          <a:ln w="0">
            <a:noFill/>
          </a:ln>
        </p:spPr>
      </p:pic>
      <p:sp>
        <p:nvSpPr>
          <p:cNvPr id="1342" name="矩形 136194"/>
          <p:cNvSpPr/>
          <p:nvPr/>
        </p:nvSpPr>
        <p:spPr>
          <a:xfrm>
            <a:off x="4992840" y="3411360"/>
            <a:ext cx="4316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36195"/>
          <p:cNvSpPr/>
          <p:nvPr/>
        </p:nvSpPr>
        <p:spPr>
          <a:xfrm>
            <a:off x="4971960" y="3882960"/>
            <a:ext cx="1008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图片 135170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181720" cy="3400560"/>
          </a:xfrm>
          <a:prstGeom prst="rect">
            <a:avLst/>
          </a:prstGeom>
          <a:ln w="0">
            <a:noFill/>
          </a:ln>
        </p:spPr>
      </p:pic>
      <p:sp>
        <p:nvSpPr>
          <p:cNvPr id="1345" name="矩形 135171"/>
          <p:cNvSpPr/>
          <p:nvPr/>
        </p:nvSpPr>
        <p:spPr>
          <a:xfrm>
            <a:off x="6853320" y="235440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134145" descr=""/>
          <p:cNvPicPr/>
          <p:nvPr/>
        </p:nvPicPr>
        <p:blipFill>
          <a:blip r:embed="rId1"/>
          <a:stretch/>
        </p:blipFill>
        <p:spPr>
          <a:xfrm>
            <a:off x="336600" y="876240"/>
            <a:ext cx="8039160" cy="91440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134146" descr=""/>
          <p:cNvPicPr/>
          <p:nvPr/>
        </p:nvPicPr>
        <p:blipFill>
          <a:blip r:embed="rId2"/>
          <a:stretch/>
        </p:blipFill>
        <p:spPr>
          <a:xfrm>
            <a:off x="944640" y="1996920"/>
            <a:ext cx="6772320" cy="2381400"/>
          </a:xfrm>
          <a:prstGeom prst="rect">
            <a:avLst/>
          </a:prstGeom>
          <a:ln w="0">
            <a:noFill/>
          </a:ln>
        </p:spPr>
      </p:pic>
      <p:sp>
        <p:nvSpPr>
          <p:cNvPr id="1348" name="矩形 134147"/>
          <p:cNvSpPr/>
          <p:nvPr/>
        </p:nvSpPr>
        <p:spPr>
          <a:xfrm>
            <a:off x="1303200" y="1378080"/>
            <a:ext cx="156240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图片 133121" descr=""/>
          <p:cNvPicPr/>
          <p:nvPr/>
        </p:nvPicPr>
        <p:blipFill>
          <a:blip r:embed="rId1"/>
          <a:stretch/>
        </p:blipFill>
        <p:spPr>
          <a:xfrm>
            <a:off x="317520" y="870120"/>
            <a:ext cx="8153280" cy="346680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3122"/>
          <p:cNvSpPr/>
          <p:nvPr/>
        </p:nvSpPr>
        <p:spPr>
          <a:xfrm>
            <a:off x="1407960" y="2733840"/>
            <a:ext cx="4525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9:54:53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